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6FA8-25A8-45D3-A11A-AA555AC294B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are classified as soluble if a good deal of solid visibly when added to water. On the other hand, if only a small amount of solid dissolves, the solid is slightly soluble. If no solid can be observed to dissolve, the substance is described as insoluble. Be aware that insoluble is a relative term and does not mean that no solute dissolves. Keep in mind also that an ionic compound can have a low solubility, but still be a strong electroly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BCDF8-04EF-4FCC-BB92-5FDCA724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38743-14A6-40F1-ADB7-4B172DE1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DD306-139A-4F34-A198-70F35A98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174C-05A7-416E-8A21-5153612C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1A44-0B2E-4A7E-BB43-0AF75EA0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FAF8-0DD7-4863-88F5-91200EF7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A689-51D2-4DED-97FB-AE24F674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5518-5BF9-4875-9D14-529C667D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396D-843B-40EB-A975-0DD217CB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9D19-7A38-4459-B657-B87A8A28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33C7-3532-4112-A842-CA123241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22F88-D258-4ADD-9D6B-AF66705D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06FD-0C2A-4B56-A589-36095EB9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E28D-5B1A-4359-9105-9E837B5F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E1AE-D453-49D3-B606-8C72F234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2FD5-73E1-4E20-9CAF-6CC1CA01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6C4B-740E-4F66-B113-18F4ADB2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0155-5CE0-4D5B-B74A-AB48960D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F5389-CE8D-4961-9B27-FA025331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461E2-AE88-4341-B5AE-B19119C9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DA8D1-F4FE-4033-B21A-FF0052A8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7D4BB-E579-4645-B894-BB6B8F37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386F5-3E30-4FE4-A4EC-FD6C70D8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D92A-B22F-4C84-A47C-2F3EFAD4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9EE3-2E20-488D-9845-7035B88EE8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4796-5849-4CE7-B955-8AC8C5EE3F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Displacem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you will lear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edict the solubility of a product and if precipiate is formed using solubilit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dict weather a reaction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rite a complete balanced equation for a double displacement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 Displacement Reactions tha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 a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73440" y="1196640"/>
            <a:ext cx="921708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6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ne product of the double displacement decomposes to give </a:t>
            </a: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WATER and a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s type has two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7d"/>
                </a:solidFill>
                <a:latin typeface="Arial"/>
              </a:rPr>
              <a:t>1. The double displac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7d"/>
                </a:solidFill>
                <a:latin typeface="Arial"/>
              </a:rPr>
              <a:t>2. The decomposition of one of the products of double displacement to form water and a g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Steps to solving double displacement reactions that produce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erform the double displace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7d"/>
                </a:solidFill>
                <a:latin typeface="Arial"/>
              </a:rPr>
              <a:t>        </a:t>
            </a:r>
            <a:r>
              <a:rPr b="1" lang="en-CA" sz="2800" spc="-1" strike="noStrike">
                <a:solidFill>
                  <a:srgbClr val="00007d"/>
                </a:solidFill>
                <a:latin typeface="Arial"/>
              </a:rPr>
              <a:t>Na</a:t>
            </a:r>
            <a:r>
              <a:rPr b="1" lang="en-CA" sz="2800" spc="-1" strike="noStrike" baseline="-25000">
                <a:solidFill>
                  <a:srgbClr val="00007d"/>
                </a:solidFill>
                <a:latin typeface="Arial"/>
              </a:rPr>
              <a:t>2</a:t>
            </a:r>
            <a:r>
              <a:rPr b="1" lang="en-CA" sz="2800" spc="-1" strike="noStrike">
                <a:solidFill>
                  <a:srgbClr val="00007d"/>
                </a:solidFill>
                <a:latin typeface="Arial"/>
              </a:rPr>
              <a:t>CO</a:t>
            </a:r>
            <a:r>
              <a:rPr b="1" lang="en-CA" sz="28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r>
              <a:rPr b="1" lang="en-CA" sz="2800" spc="-1" strike="noStrike">
                <a:solidFill>
                  <a:srgbClr val="00007d"/>
                </a:solidFill>
                <a:latin typeface="Arial"/>
              </a:rPr>
              <a:t>(aq) + HCl(aq) </a:t>
            </a:r>
            <a:r>
              <a:rPr b="1" lang="en-CA" sz="2800" spc="-1" strike="noStrike">
                <a:solidFill>
                  <a:srgbClr val="00007d"/>
                </a:solidFill>
                <a:latin typeface="Wingdings"/>
                <a:ea typeface="Wingdings"/>
              </a:rPr>
              <a:t></a:t>
            </a:r>
            <a:r>
              <a:rPr b="1" lang="en-CA" sz="2800" spc="-1" strike="noStrike">
                <a:solidFill>
                  <a:srgbClr val="00007d"/>
                </a:solidFill>
                <a:latin typeface="Arial"/>
              </a:rPr>
              <a:t> NaCl(aq) +</a:t>
            </a:r>
            <a:r>
              <a:rPr b="0" lang="en-C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1" lang="en-CA" sz="2800" spc="-1" strike="noStrike" baseline="-25000">
                <a:solidFill>
                  <a:srgbClr val="00007d"/>
                </a:solidFill>
                <a:latin typeface="Arial"/>
              </a:rPr>
              <a:t>2</a:t>
            </a:r>
            <a:r>
              <a:rPr b="1" lang="en-CA" sz="2800" spc="-1" strike="noStrike">
                <a:solidFill>
                  <a:srgbClr val="00007d"/>
                </a:solidFill>
                <a:latin typeface="Arial"/>
              </a:rPr>
              <a:t>CO</a:t>
            </a:r>
            <a:r>
              <a:rPr b="1" lang="en-CA" sz="28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r>
              <a:rPr b="1" lang="en-CA" sz="2800" spc="-1" strike="noStrike">
                <a:solidFill>
                  <a:srgbClr val="00007d"/>
                </a:solidFill>
                <a:latin typeface="Arial"/>
              </a:rPr>
              <a:t>(aq)                                              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(Very unstable so it decompos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2. Perform the decomposition: convert the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unstable compound*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into water and a gas.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H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1" lang="en-CA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(l) + CO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g)  (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call from decomposition reactions: Acid </a:t>
            </a:r>
            <a:r>
              <a:rPr b="0" lang="en-CA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Non-metal oxide and water.) Trick: 1st subtract water from the formula of the acid: H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 = CO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(take out 2 H and one 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3. Rewrite the original reaction and replace the acid in the original equation by water and the gas produced.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Na</a:t>
            </a:r>
            <a:r>
              <a:rPr b="1" lang="pt-BR" sz="2400" spc="-1" strike="noStrike" baseline="-25000">
                <a:solidFill>
                  <a:srgbClr val="00007d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CO</a:t>
            </a:r>
            <a:r>
              <a:rPr b="1" lang="pt-BR" sz="24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(aq) + HCl(aq) </a:t>
            </a:r>
            <a:r>
              <a:rPr b="1" lang="en-CA" sz="2400" spc="-1" strike="noStrike">
                <a:solidFill>
                  <a:srgbClr val="00007d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 NaCl(aq) + H</a:t>
            </a:r>
            <a:r>
              <a:rPr b="1" lang="pt-BR" sz="2400" spc="-1" strike="noStrike" baseline="-25000">
                <a:solidFill>
                  <a:srgbClr val="00007d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O (l) + CO</a:t>
            </a:r>
            <a:r>
              <a:rPr b="1" lang="pt-BR" sz="2400" spc="-1" strike="noStrike" baseline="-25000">
                <a:solidFill>
                  <a:srgbClr val="00007d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(g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)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uble Displacement &amp; Neutraliz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Neutralization Reaction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 special type of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double displaceme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reaction that produces water and a s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General Equation: 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cid (Usually has H) + Base (usually has OH) </a:t>
            </a:r>
            <a:r>
              <a:rPr b="1" lang="en-C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Water + Ionic Com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 (a salt: ionic compound produced by a neutralization rea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ample Problem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.g. NaOH(aq) + HCl(aq) </a:t>
            </a:r>
            <a:r>
              <a:rPr b="0" lang="en-C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aCl(aq) + 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aq) + NaOH(aq) </a:t>
            </a:r>
            <a:r>
              <a:rPr b="0" lang="en-C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KOH(aq) + H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C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rO(s) + HBr(aq) </a:t>
            </a:r>
            <a:r>
              <a:rPr b="0" lang="en-C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the Products for a Chemical Re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84560" y="1700280"/>
            <a:ext cx="259092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9680" y="2781360"/>
            <a:ext cx="38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Is there only ONE react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080" y="3357720"/>
            <a:ext cx="722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es, then this reaction is a 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DECOMPOSITION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443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3645000"/>
            <a:ext cx="7993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there should be two products, each being a separate element (i.e. Na, Ca, 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B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although that is not always th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0640" y="4869000"/>
            <a:ext cx="51408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H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 + O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the Products for a Chemical Re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95800" y="1700280"/>
            <a:ext cx="416628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n + Sn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80" y="2781360"/>
            <a:ext cx="81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If there are 2 reactants, is one of them a pure metal on its ow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0240" y="3357720"/>
            <a:ext cx="80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es, then this reaction is a 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SINGLE DISPLACEMENT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443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645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the metal that is on its own must take the place of the other metal that is in the larger 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79800" y="4797360"/>
            <a:ext cx="65988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n + Sn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nCl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+ S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the Products for a Chemical Re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46160" y="1700280"/>
            <a:ext cx="50670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Cl + AgN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9320" y="2781360"/>
            <a:ext cx="515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Are both of the reactants compoun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9880" y="3357720"/>
            <a:ext cx="82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es, then this reaction is a 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DOUBLE DISPLACEMENT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43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3645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the two metals must switch places with one another, forming two new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4160" y="4724280"/>
            <a:ext cx="840024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Cl + AgN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NO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+ Ag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the Products for a Chemical Re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82560" y="1700280"/>
            <a:ext cx="399132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8960" y="2781360"/>
            <a:ext cx="48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Is one of the reactants oxygen g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335772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es, then this reaction is a 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COMBUSTION REACTION (as well as a SYNTHESIS RE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443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4022640"/>
            <a:ext cx="7993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the products must be an oxide and energy. If one of the reactants is a hydrocarbon, then 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 are the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720" y="5040360"/>
            <a:ext cx="900684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25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6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+ 18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 +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07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 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olubility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 of a solute is the amount that can be dissolved in a given quantity of solvent at a given temperature.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.g. Pb(NO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 is 56 g/100 mL H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 at 20°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is temperature and pressure 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ree categories: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oluble, slightly soluble, and insolubl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bility Rules and Double Displacement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double displacement reaction occurs if a precipitate forms, a gas is produced or a molecular compound like water is creat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bility r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used to determine if a reaction will occur in a double displacement rea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oth the products are soluble (form ions in solution), th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re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occur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00" y="1173240"/>
            <a:ext cx="90756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CoC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+ 2Na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2(s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+ 6NaC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49480" y="1844640"/>
            <a:ext cx="50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ll this reaction occur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86160" y="2562120"/>
            <a:ext cx="4857840" cy="4295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2565360"/>
            <a:ext cx="406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reaction will occur only if the following will b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Solid precip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5661000"/>
            <a:ext cx="2016360" cy="1008000"/>
          </a:xfrm>
          <a:prstGeom prst="wedgeRoundRectCallout">
            <a:avLst>
              <a:gd name="adj1" fmla="val 163935"/>
              <a:gd name="adj2" fmla="val -10007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ility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ing an Insoluble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51280" y="2997360"/>
            <a:ext cx="4764240" cy="3573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24000" y="2394000"/>
            <a:ext cx="3412800" cy="4464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42320" y="1484280"/>
            <a:ext cx="7495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K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bility Ru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mmon ionic compounds in water at 25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12599" r="0" b="0"/>
          <a:stretch/>
        </p:blipFill>
        <p:spPr>
          <a:xfrm>
            <a:off x="395280" y="2205000"/>
            <a:ext cx="82803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ying Solu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our solubility chart to verity if the compound is soluble in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bilities Not on the Tab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 only slightly dissolve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acids and bases dissolve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chloric, Hydrobromic, Hydroiodic, Nitric, Sulfuric, Perchloric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 hydroxides (should be on your chart anyw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slightly dissolves in water! (H+ and OH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soluble; Be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products are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tables and rules that cover more compounds than your ta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bility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117440"/>
            <a:ext cx="914400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03:24:19Z</dcterms:created>
  <dc:creator>Natalya</dc:creator>
  <dc:description/>
  <dc:language>en-US</dc:language>
  <cp:lastModifiedBy>Natalya</cp:lastModifiedBy>
  <dcterms:modified xsi:type="dcterms:W3CDTF">2011-10-10T12:04:58Z</dcterms:modified>
  <cp:revision>3</cp:revision>
  <dc:subject/>
  <dc:title>Solubility</dc:title>
</cp:coreProperties>
</file>